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8.png" ContentType="image/png"/>
  <Override PartName="/ppt/media/image8.jpeg" ContentType="image/jpeg"/>
  <Override PartName="/ppt/media/image23.png" ContentType="image/pn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9.png" ContentType="image/png"/>
  <Override PartName="/ppt/media/image42.jpeg" ContentType="image/jpeg"/>
  <Override PartName="/ppt/media/image12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3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jpeg" ContentType="image/jpeg"/>
  <Override PartName="/ppt/media/image41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84D8-251A-491A-99B9-A3B45D94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F4D-12E5-4A5D-B81F-D3763BE0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F5C43-3E0C-443D-8B8D-39E0CE0D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58BC5-0698-40CC-87ED-E102CC99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D6B9A-9101-49A6-BF2B-98C110E7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8F90A-CFDF-49E0-B0B7-32268E45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07219-21CF-4B06-9995-A067A2D6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0983E-F15D-4D09-BAB2-6E2E8CC4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85DF9-8145-4573-A03C-0CE2C07B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940E3-6E2C-45B0-8022-2EEAC540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4EA32-8782-4CF9-B40E-C343893F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44032-839F-4279-A029-4AD2C2E4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2B2-DBBE-4F93-AA2F-47C66354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F5604-81FB-492D-BC81-2D17924B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22C9C-AB92-429E-B211-8AC6CFF8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DAB7F-0541-4247-99C7-EBF28D98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22448-BB12-41FF-A489-82249A05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51970-6279-4FAE-928D-09340DD7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C860F-6FD7-4EBA-95AC-9B3C6E3B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BC69A-C686-401D-BBC8-6FB12919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9C9A7-C4D6-4116-BA4C-5E73CDAC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07469-9AA6-4C43-B340-F0BCB890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3A337-D2D3-4AF3-9B4A-83364F66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8FD-4FE0-425C-8BF1-9EAFA309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4B30D-F09A-4768-8036-49445308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B0C7C-D702-4034-A343-5E2C8BD0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3A6CF-5461-45B8-8064-F209AADB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094B0-73CB-4F8B-9145-8B839C42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C3D6F-B3E5-4989-A7FE-15FF5490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828C7-DDD0-4DCC-AD59-52E426AA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30C97-247B-4AC0-A48E-1FDBE608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F1B66-64BA-4AEA-83A5-413B801E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B70A8-F6AA-441E-A283-371E605A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94E78-1442-4A62-8454-B42BD793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04DD-A644-42A8-AA88-D63F4F2D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B1A60-CDCC-4243-8391-8CB14B90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18376-C0B0-4938-8140-D71785F9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FDA4B-554C-44B8-BECE-F207AD94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A91D1-8B10-4EAC-87CD-D448ED5F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F372D-1A25-4981-992F-3170FB1A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8D112-7711-4375-801B-BE49EFE5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6AA8E-7634-4F54-B2A1-04A58A7E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3C0D8-3B26-40A5-90A3-9B16C889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414FC-E1FA-4609-856E-D128CB56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EFA89-0D63-498D-A284-3A515EEE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EE80-C443-4869-90EE-DBDCA11C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21958-EB49-42F7-8F5E-64E8C153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BF346-E76C-424F-982C-DD8F8D3E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D445F-7827-443E-A880-3F78DF3D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F6827-6FFD-4BDE-81A1-2B625378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1FE07-65AA-4F24-9E33-4057C47A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01C0-13C1-42BA-AB8B-9FF63AA6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1568-436F-4D1F-8872-9E13EB3E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6372-ABC1-42AE-966E-7425DED1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A853-ED66-4D11-861F-C17F2D93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0D84-58B7-47DA-A57B-9A006628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ACD-F524-4E0E-8D19-3F8AAAA9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E23E-3145-4EC2-A970-4F5F0D9F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7E90-5735-459C-BE73-C68C132B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670F-3ED0-4DAA-80BB-E75F2D1D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215F-DD46-46EA-B174-ADF417E5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8B02-C4A2-438D-9C9F-58419F12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CEAA9-4789-4EC1-9199-5A647666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4479B-8A11-4938-BC4C-4F5433DA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D1D70-F0BD-4E1A-A4DA-19D542EA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F0253-DBCC-4F88-AD03-7925252F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0CE3B-4F75-40D0-BE9C-D251B71A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21C-32ED-48EB-ACF1-EA3EF92A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13B5-EA89-47F7-94AE-7923378A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0BE01-DB6B-4436-9669-14752780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6483-F3AD-40B7-93F5-2C8C3389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676A9-58FE-42CE-B35D-3F58CFDB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466B-0801-499C-A70B-BC431C57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20B3-51BF-4406-A1D9-4BD8682D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9D362-AECE-47F0-85D5-DA201C0B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11A40-51ED-4CDD-AC97-F6766237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72A22-B8F0-4F89-AD5C-F4740159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899A4-4F9D-420E-8465-58D1D9C8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B5F-313A-49AE-9476-24883B5D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57F6F-C591-4663-B196-A5C1463A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AEC1D-4AC5-45E6-A994-DD6E09D6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50EE9-70E5-4852-98E4-883C03C8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B7C7A-D64C-4BB0-A134-A351F084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6DBEB-14E2-4383-AE87-A7B0FB64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78224-16DC-4D8D-938D-CD1D115F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59A24-E5D3-4D8E-8093-36366823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658D8-69E1-4295-86DA-65715231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A1633-3E55-471E-A64B-7B7DF5DE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8DFB0-91E8-4743-A224-F2F7B996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9D6-A388-4DC3-89CD-F3CC6323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77692-6D68-41EA-8E83-5DBD8313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9FD97-360B-4715-A9A7-FDB8C7E9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DF3AC-6265-4937-AD85-6DCC185D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E335F-7081-42E2-B595-7D8245D0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D2F36-268C-44AE-8D5A-203EF844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78220-6899-45D5-9D78-C6892818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9CBFC-A2DD-45D3-ACB5-1BCC955D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5F72-87D5-456D-97E9-2B11ADA3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378C5-5C34-4143-AF90-09FC7001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AC192-53DC-4ED8-B496-7AE26E9A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E147-3FE0-4818-B898-A46AAD6A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828D0-BAEA-4DB3-9FA3-7C6CA71A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69BED-68AF-4A99-A0DE-F50130F5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8D88B-F006-4369-A234-2BFD2884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B66F3-EB07-4243-8B46-78F4FB8F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5BB5C-0CE9-47DD-B5DC-370B396D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126A8-7841-4866-BC68-7BFD76D3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EC681-BF00-45C8-8C5F-6769F94D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71AE1-4A59-425C-893E-E853452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EA74C-61E1-427C-AF81-3D2D973F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2CEAC-BFFA-4786-9DED-CF5B4745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E30-B0F2-4085-B157-3D651230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99B57-D17C-4F2C-ACA5-8708F9D7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FE92C-10F4-4343-81B4-1F44A57E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A3704-A0FE-484C-B5F7-65A5CB58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D7717-81E3-462C-BC2F-839F8FF3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9349A-DEC6-4ABF-B003-741B45DB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C66DD-E1C4-467E-82E8-DF17FD02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5B134-55EF-4FBD-A501-39915856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F253E-B7AD-48AE-86A6-2717328A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52399-A8E8-4F0E-8DE5-6988EDC8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D656F-3E3E-4D76-BF8B-EA86B70D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314-95F2-4059-97BF-A9CC87E1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3F53A-E5B0-4731-898A-FC4FE6AB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73498-3F8F-4903-ADF6-C7AD38A5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27714-7CAE-43C8-B77A-317247D8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0C62B-E9ED-4FFF-AC05-67E306A4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72127-AF3C-41D7-90C9-EE42194E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740AD-486A-443B-B50E-FCC9B419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127C7-C715-43A7-9ACC-098060E6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27FF2-D348-4D68-88CA-FF708F6C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CEBD7-4C24-4F71-920E-2AFB2E15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C8D1E-4CBD-4269-9F3D-F1313A3E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DED-67DB-455E-8421-64F0BB5F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5A6BA-922C-4A4F-926C-8F1515C1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F95C9-4933-4E35-802F-E035E19A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A06AF-3A37-4F55-958F-02993F1D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74381-C4B2-4DB2-A900-3462EC71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49DFC-2FED-41EE-B266-081006F2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7DCB9-E519-4066-97A8-097ACEB0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D468C-AA2B-478D-A81A-CA888F68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AD085-55C4-416D-B865-3C4E7E3B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F5FF5-4AC6-4507-93EB-F8850D14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923B6-6DF4-47DE-8E1B-F2A806B5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0C03-657A-4312-8940-4F4562C1E5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644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645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659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663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667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671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675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365F-D726-49B9-B676-B5CAADA4CA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726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2C32-0D7A-41AE-A704-092C6EB6A6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71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B829-9283-46C7-8C14-3CB29B0D84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FACB-FE91-4FD7-9258-915403FE89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35DA-0D48-43B9-A11D-F9C87AF6E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3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F86E-6473-4D09-A593-346B63ACD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76C4-994F-40DF-8D3B-8FE77E5AB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9068-618F-4DC4-A312-014D0E4B3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05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09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34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AB72-6DD1-4AD4-B499-E7415B7C147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8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8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64A3-BCE0-4108-B2DB-ECB3BEFB6D4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560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62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567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73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6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77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581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585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7C3D-70F2-4561-9738-8F096AA4009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187280" y="0"/>
            <a:ext cx="7561440" cy="73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Verdana"/>
              </a:rPr>
              <a:t>Проект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Verdana"/>
              </a:rPr>
              <a:t>«КАК ПРЕКРАСЕН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Verdana"/>
              </a:rPr>
              <a:t>ЭТОТ МИР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Подготовили учащиеся 6 класс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МОУ СОШ №22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Кушнир Дмитри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Юдина Арин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Кузьмин Григори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Гераськина Ольг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Ли Даниил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Зинина Ольг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Verdana"/>
              </a:rPr>
              <a:t>УЧИТЕЛЬ: ЗАХАРОВА Т.В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6913440" cy="52563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5150160" y="6165720"/>
            <a:ext cx="26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огулка по Варшав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89800" cy="52563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2411280" y="6021360"/>
            <a:ext cx="58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Прогулка на речном трамвайчик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4681440" cy="518508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 flipV="1" rot="10800000">
            <a:off x="3995280" y="616500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Праг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5867280" y="981000"/>
            <a:ext cx="2751120" cy="381024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6296040" y="50277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Замок Карлштейн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547236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7253640" y="630864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аг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672000" cy="36007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4103640" cy="441792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457200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Католические собор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912000" cy="540072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4514760" y="61545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Чешский Кругл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УТЕШЕСТВИЕ В КАЗАХСТ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" dur="2000" fill="hold"/>
                                        <p:tgtEl>
                                          <p:spTgt spid="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ПРОЕКТ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Verdana"/>
              </a:rPr>
              <a:t>Познакомиться с особенностями природы и бытом населения тех районов мира, в которых мы побывали во время канику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201080" cy="518508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4427640" y="6093000"/>
            <a:ext cx="29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зеро Иссы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048720" cy="475308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3780000" y="5877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Спортивный комплекс Меде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УТЕШЕСТВИЕ В БЕЛОРУСС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" dur="2000" fill="hold"/>
                                        <p:tgtEl>
                                          <p:spTgt spid="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128000" cy="53294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2124000" y="609300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Холмские ворота Брестской крепо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УТЕШЕСТВИЕ В ГЕЛЕНДЖИ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5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6235560" cy="561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4"/>
          <a:stretch/>
        </p:blipFill>
        <p:spPr>
          <a:xfrm>
            <a:off x="-900000" y="-531720"/>
            <a:ext cx="10972800" cy="82296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5"/>
          <a:stretch/>
        </p:blipFill>
        <p:spPr>
          <a:xfrm>
            <a:off x="0" y="189000"/>
            <a:ext cx="4753080" cy="360036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684360" y="5300640"/>
            <a:ext cx="81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Геленджик – климатический курорт Краснодарского края, находится на берегу Геленджикской бухты Черного мор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УТЕШЕСТВИЕ 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К АЗОВСКОМУ МОР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444348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7885080" cy="504180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2843280" y="602136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47636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63640" y="6093000"/>
            <a:ext cx="71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зовское море находится на юге Восточно – Европейской равнины, имеет глубину 15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6049800" cy="540072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6443640" y="64911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Ли Дании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УТЕШЕСТВИЕ В ТУРЦИ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7" dur="20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10153800" cy="717408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 flipH="1">
            <a:off x="1187280" y="4076640"/>
            <a:ext cx="70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83528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35280" cy="400068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4105080" cy="367200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5890320" y="596412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Храм Афин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4437000"/>
            <a:ext cx="42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уины Геркулесовых ворот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4105080" cy="367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250920" y="60930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141800" cy="6165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077080" cy="316872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1635120" y="428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08000" y="371628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Захоронения султана Оттамана и его семь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4067280" y="3213000"/>
            <a:ext cx="4825800" cy="288000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5235120" y="608652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Черная крепость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0" y="3538440"/>
            <a:ext cx="4535640" cy="3319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-1044720" y="1916280"/>
            <a:ext cx="71640" cy="7272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24000" y="1773360"/>
            <a:ext cx="5688000" cy="3168360"/>
          </a:xfrm>
          <a:prstGeom prst="horizontalScroll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187280" y="2852640"/>
            <a:ext cx="44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КАК ЗДОРОВО ПУТЕШЕСТВОВАТЬ 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advTm="30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УТЕШЕСТВИЕ В ПОЛЬШУ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И ЧЕХИ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1571760" y="1752480"/>
            <a:ext cx="6000480" cy="335304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5796000" y="530064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арша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1:42:20Z</dcterms:created>
  <dc:creator>555</dc:creator>
  <dc:description/>
  <dc:language>en-US</dc:language>
  <cp:lastModifiedBy>555</cp:lastModifiedBy>
  <dcterms:modified xsi:type="dcterms:W3CDTF">2007-12-16T07:38:10Z</dcterms:modified>
  <cp:revision>53</cp:revision>
  <dc:subject/>
  <dc:title>Слайд 1</dc:title>
</cp:coreProperties>
</file>